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A9D5-F0B5-4079-869B-3612A4C0E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F0A6-3B20-4A26-A2B7-A768E197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FE40-0F8C-4A0F-AA17-ADF78EE2E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EABF-B696-4E77-9AC7-87ED6C85E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ED18-4033-47DD-B761-5D83334C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3A8-A19F-4871-98ED-E3F9F91D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613-534F-4276-B252-208B8BCE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325B-92B8-40A4-9A24-F32D99792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0701-76AE-4EE6-91EA-F80CAB14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8E7-719E-40DA-9753-BF538FA8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F5F5-4A05-4692-8345-6EBA92F3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BEC5-D359-417F-A8AE-14096BA1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270-E6AF-46CA-A200-310BF57BF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1645-9AB2-4160-86A7-1CBC4C48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67B-89E2-4C4B-AEA9-4366D0213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D39E-5C48-4CB5-8D4A-EE746A8D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4343-6B40-4010-8055-84DA2424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07A8-3507-4F27-ADFD-D23D588B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13FC-C6ED-46C8-8E9B-C54414A6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36B3-1198-4B14-9C0C-E2164A950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3434-7583-4F90-8B55-D53D9DD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358F-C062-49AA-B2B4-75E56D4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6934-E2A6-46DC-A2AF-85D3D5DEB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0CB8A-5A48-49BA-B362-D6C79E91D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B0107-66E5-4BD0-ACC3-92049476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7C59E-DF80-4A54-9B57-6FAAB1A0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9A04-EBB3-4302-B2BB-22AE03A9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DF55C-333E-4C3D-B66E-2D4182E1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480C9-39F6-4D97-A0C9-BB6D9775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013DB-510F-49B8-8219-D729074F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4B27-5A0A-487F-A908-45F8CD5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437EE-0F60-4A6B-8D75-B5E0FBDF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D7889-9DAA-4D72-87FF-367D40B1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1FA94-60EF-41FB-9425-9B139953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60760-2070-4068-9FAF-E1F9548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72C1-CD0E-43F0-AAE6-D1A9F485C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8412-2348-4F0C-98CB-EC14D637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3741-00DE-4617-8EE8-328D1D4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A689-5176-4162-AFB5-E4731642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DA49-27FF-407D-A1E8-89C08795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8A73-2A98-4F7D-B321-9C7ADCA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994B-47D2-49AB-9682-DAA638BE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6DD9-B070-4566-8B89-0C069A78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ckground"/>
          <p:cNvPicPr/>
          <p:nvPr/>
        </p:nvPicPr>
        <p:blipFill>
          <a:blip r:embed="rId2"/>
          <a:srcRect l="5701" t="0" r="877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1E9C-1176-4B3C-9290-3F2676A40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764C-7AB4-4918-B6BA-9ECC7C710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720" y="2130120"/>
            <a:ext cx="449568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971c"/>
                </a:solidFill>
                <a:latin typeface="Arial"/>
              </a:rPr>
              <a:t>Transitioning to Life After Residenc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dc3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dc3"/>
                </a:solidFill>
                <a:latin typeface="Arial"/>
              </a:rPr>
              <a:t>Lorna Linds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Medical Socie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Placement Servic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istings Not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st Be Memb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Job Open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Physicians’ Names           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(Some Provide Abbreviated CV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scover Opportunities &amp; Make Yourself Known Through Word Of Mou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ttending Physicians &amp; Former Resi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llied Health Professions And Pharmaceutical Representa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roductions Serve As Impli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rivate Placement Servic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gency Personnel Find &amp; Pursue Opportunities For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affed By Motivated Profession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ee – Fees Paid By Emplo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gwork Done For Yo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Evaluating Search Fi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ow Long In Busin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ho Pays Fe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eographic Coverage Ar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ypes Of Practices Represen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uaranteed Confidentialit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n you talk with physicians previously placed by the fir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al World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verse Practice Set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Variety Of Lo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chedule That Fits Your Lifesty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ol For Locating Practice Opport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roadens Clinical Exp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head-Free In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reedom &amp; Flex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Malpractice Insur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ypes of Coverag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ims M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ccurren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overage Limi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 Claim And Aggreg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icens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ates Have Different Rules And Regu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sts Diff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cessing Time Va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t Notarized Copies Of Important Doc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DEA Registration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llow Time For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st Office Cannot Forward Renewal Pac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No Grace Period For Renew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pires After Three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hoosing Your Pract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ne Of The Most Important Decisions Of Your Care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Never Too Soon To Gather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ver 50% Of Young Physicians Change Practices Within Two Years Of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Know And Understand Your O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egin With Goals And Work Backw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Understa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o You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You Like To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yers Briggs Type Indicator 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dispensable To Self-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vailable For Self-Administration On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wo Levels Of Self-Examin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1 – Introsp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undamentals Of Who You Are And How You Like To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 You Live to Work Or Work To Li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2 – External Fa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Your Job Allow You To Pursue Hobbies And Personal Interes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ney/Time-Of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earch/Time With Pati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utonomy And Pow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dom And Secu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estige And Recogn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ork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pecial Medical Inter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ersonal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pouse’s Expec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mands Of Practice vs. Demands Of Sp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/She Satisfied With Loca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amily Ne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cial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lder C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terests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ligion – Education - Recre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ools For Loc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Practice Opportuni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rect Mail Adverti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rch Fi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ety/Residency Program Placement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acticeMa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esigned To Generate Le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Do Not Provide Actual Job Descrip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General Medical Journ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tate &amp; County Medical Society Periodic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pecialty Clinical Publica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y Already Be Fil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irect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pidly Growing Re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obs Are Curr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ster Form Of Commun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Key To Success – Taking &amp; Sustaining Initi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egwork Re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58:01Z</dcterms:created>
  <dc:creator>Lorna Lindsey</dc:creator>
  <dc:description/>
  <dc:language>en-US</dc:language>
  <cp:lastModifiedBy>lthomas</cp:lastModifiedBy>
  <dcterms:modified xsi:type="dcterms:W3CDTF">2009-12-29T17:30:23Z</dcterms:modified>
  <cp:revision>7</cp:revision>
  <dc:subject/>
  <dc:title>Slide 1</dc:title>
</cp:coreProperties>
</file>